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9D7-6DB1-4449-96B1-981FD8DB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4EC-E861-49D9-94AA-D9012F5A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3C8-4EE1-4DD1-954E-5253E33C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0E14-202A-48E0-855A-BD53A695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C94-A1DD-4265-90BF-B0C8804D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E05-6226-4A0A-8CF8-821348AD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C14-021C-4A85-BD16-E0C97FF3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683-68B9-415F-B1CB-7AAF3CB7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377-F3CD-4F8D-BADF-073D3A24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F607-9578-494B-9CAF-59387EAA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D2E-C596-4634-B3A7-4732C0C6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7B8C-C71B-4B1C-A240-C48E27D6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0299-9189-4041-A5BE-CAF384580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istorychannel.com/" TargetMode="External"/><Relationship Id="rId2" Type="http://schemas.openxmlformats.org/officeDocument/2006/relationships/hyperlink" Target="http://www.behindthename.com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00"/>
                </a:solidFill>
                <a:latin typeface="Matura MT Script Capitals"/>
              </a:rPr>
              <a:t>St. Patrick’s Day</a:t>
            </a:r>
            <a:br>
              <a:rPr sz="8000"/>
            </a:br>
            <a:br>
              <a:rPr sz="4800"/>
            </a:br>
            <a:br>
              <a:rPr sz="48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Trebuchet MS"/>
              </a:rPr>
              <a:t>History and Tradi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atura MT Script Capitals"/>
              </a:rPr>
              <a:t>Who was St. Patri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00040" y="152388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. Patrick is the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patron sain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f Ire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e converted many Irish to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Christianit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in the fifth cent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. Patrick incorporated traditional Celtic symbols, like the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bonfir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nd the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into his Christian teac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. Patrick died on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March 17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circa 46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. Patrick’s Day is the saint’s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feast da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nd has evolved from a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religious holida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to a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worldwide celebr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568600" cy="4496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00400" y="228600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297180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51055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4197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atura MT Script Capitals"/>
              </a:rPr>
              <a:t>St. Patrick’s Day Tra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hristians attend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church in the mornin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celebrate in the afterno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although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pubs in Ireland were closed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n March 17 by law until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rules of Lent are waived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nd revelers traditionally eat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Irish bacon and cabbag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first St. Patty’s Day parad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ccurred when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Irish soldier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in the British army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marched through New York Cit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n March 17, 176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Chicago Riv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has been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dyed gree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every year since 196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74320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098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10552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atura MT Script Capitals"/>
              </a:rPr>
              <a:t>St. Patrick’s Day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2362320" cy="234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2263680" cy="3962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39680" y="5486400"/>
            <a:ext cx="216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US" sz="1400" spc="-1" strike="noStrike">
                <a:solidFill>
                  <a:srgbClr val="009900"/>
                </a:solidFill>
                <a:latin typeface="Trebuchet MS"/>
              </a:rPr>
              <a:t>Celtic Cross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– a sun (from the Celts) super-imposed on a cross (from the Christia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2057400"/>
            <a:ext cx="2361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US" sz="1400" spc="-1" strike="noStrike">
                <a:solidFill>
                  <a:srgbClr val="009900"/>
                </a:solidFill>
                <a:latin typeface="Trebuchet MS"/>
              </a:rPr>
              <a:t>shamrock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, or “seamroy,” symbolizes the rebirth of spring. It was later adopted as a symbol of Irish nationalis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267080"/>
            <a:ext cx="2286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US" sz="1400" spc="-1" strike="noStrike">
                <a:solidFill>
                  <a:srgbClr val="009900"/>
                </a:solidFill>
                <a:latin typeface="Trebuchet MS"/>
              </a:rPr>
              <a:t>leprechaun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, or “lobaircin” was a cranky, “small-bodied fellow” of Celtic folklore, given its “cute” features and popularized in the United States by Walt Disne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12952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3581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1648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atura MT Script Capitals"/>
              </a:rPr>
              <a:t>St. Patrick’s Day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9880" y="3962520"/>
            <a:ext cx="2438640" cy="2252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5029200"/>
            <a:ext cx="2666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rebuchet MS"/>
              </a:rPr>
              <a:t>Music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has always been an important part of Irish life. Irish music is produced with instruments like the fiddle, the uilleann pipes, the tin whistle, and the bodhr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1752480"/>
            <a:ext cx="2361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t. Patrick never drove </a:t>
            </a:r>
            <a:r>
              <a:rPr b="0" lang="en-US" sz="1400" spc="-1" strike="noStrike">
                <a:solidFill>
                  <a:srgbClr val="009900"/>
                </a:solidFill>
                <a:latin typeface="Trebuchet MS"/>
              </a:rPr>
              <a:t>snakes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from Ireland; the story is a metaphor for </a:t>
            </a:r>
            <a:r>
              <a:rPr b="0" lang="en-US" sz="1400" spc="-1" strike="noStrike">
                <a:solidFill>
                  <a:srgbClr val="009900"/>
                </a:solidFill>
                <a:latin typeface="Trebuchet MS"/>
              </a:rPr>
              <a:t>driving paganism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from the isl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426708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traditional meal of </a:t>
            </a:r>
            <a:r>
              <a:rPr b="0" lang="en-US" sz="1400" spc="-1" strike="noStrike">
                <a:solidFill>
                  <a:srgbClr val="009900"/>
                </a:solidFill>
                <a:latin typeface="Trebuchet MS"/>
              </a:rPr>
              <a:t>Irish bacon and cabbage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has been modified in the United States. Irish bacon has been replaced with </a:t>
            </a:r>
            <a:r>
              <a:rPr b="0" lang="en-US" sz="1400" spc="-1" strike="noStrike">
                <a:solidFill>
                  <a:srgbClr val="009900"/>
                </a:solidFill>
                <a:latin typeface="Trebuchet MS"/>
              </a:rPr>
              <a:t>corned beef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for the annual fea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12952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581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1943280" cy="358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477120" y="1460520"/>
            <a:ext cx="201924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atura MT Script Capitals"/>
              </a:rPr>
              <a:t>Irish 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are </a:t>
            </a: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34 millio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U.S. residents who claim Irish ancestry, second only to Germ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 Irish na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Core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– Gaelic for “rav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Dougla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– from the Gaelic name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Dubhghla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(“dark river or blood river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Bren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– derived from an English place name which meant “hill” in Cel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Brya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– possibly related to the Old Celtic element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br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ing “hill; high, no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Kevi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– from Old Irish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coem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(“kind, gentle, handsome”) and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gei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(“birth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Matura MT Script Capitals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nt out the slides and cut out on the dotted lines. Also cut out the title on each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rrange the facts however you would like on your bulletin 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clude background information about various Irish names of residents on your fl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istorical information from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www.historychannel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; Name information from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www.behindthenam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mages collected from various 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letin Board submitted by: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Mike Hillman, Resident Assistant Elizabethtown Colle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1:29:41Z</dcterms:created>
  <dc:creator>Elizabethtown College</dc:creator>
  <dc:description/>
  <dc:language>en-US</dc:language>
  <cp:lastModifiedBy> </cp:lastModifiedBy>
  <dcterms:modified xsi:type="dcterms:W3CDTF">2009-02-22T00:00:12Z</dcterms:modified>
  <cp:revision>7</cp:revision>
  <dc:subject/>
  <dc:title>St. Patrick’s Day</dc:title>
</cp:coreProperties>
</file>